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8A35-A65D-41C2-88C7-1AE357B9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CD7D-1795-4551-91AA-25894085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EB7A-9764-4ABE-987A-8515280A2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A6F5-ED77-4DA0-B17D-D29E26F16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E471-4DA0-4C78-A118-DA7DFE32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4A3C-83F4-4D45-B888-07BCB504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DFA1-6619-4D8A-B74D-D1B4A8E1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3FCA-8923-4DFE-A1D3-ED41A7D2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DA2A-705A-45E9-BC3A-6C9260D4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23F3-E11B-41B9-AB27-2285E4D7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4B92-4EA9-4544-A104-0F44C0BC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FC71-5C31-400B-9195-15ED3A54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B1E3-65C0-4EFC-B96D-604B70863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6:40:49Z</dcterms:created>
  <dc:creator>Grupo Editorial</dc:creator>
  <dc:description/>
  <dc:language>en-US</dc:language>
  <cp:lastModifiedBy>Grupo Editorial</cp:lastModifiedBy>
  <dcterms:modified xsi:type="dcterms:W3CDTF">2001-11-21T16:42:45Z</dcterms:modified>
  <cp:revision>1</cp:revision>
  <dc:subject/>
  <dc:title>Sin título de diapositiva</dc:title>
</cp:coreProperties>
</file>